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0E0F-4630-46AE-9D2A-0DF15C377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C7B3-88D0-4196-AF69-44569AD1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C87D-5F1F-4DC2-A964-EFB134D31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5FA8-7AC1-44CD-B222-9D01EECC1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5361-E6A0-4C4B-B982-30C2A6C1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52FB-144C-4693-A408-2659033D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7414-E093-4586-AD73-DBF7F5C1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2A29-E76E-4DBE-8D13-5BB66811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0A6D-7488-441E-91A7-E6AB064C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2440-EA8A-467F-8B8B-6C2B2906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64E7-0D9A-477C-8764-123027B2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1BCC-5E1D-4339-B3FB-40AF4634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83240"/>
            <a:ext cx="289584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4 Entscheidungsfind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E6BA-0001-4E6D-AFDE-F7F4A028A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opsim.com/de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topsim.com/de/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topsim.com/de/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www.topsim.com/de/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5760" y="3510000"/>
            <a:ext cx="60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37280" y="536400"/>
            <a:ext cx="2736720" cy="129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3080" y="100188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23097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826160" y="4532400"/>
            <a:ext cx="4033800" cy="1800000"/>
            <a:chOff x="4826160" y="4532400"/>
            <a:chExt cx="4033800" cy="1800000"/>
          </a:xfrm>
        </p:grpSpPr>
        <p:sp>
          <p:nvSpPr>
            <p:cNvPr id="46" name=""/>
            <p:cNvSpPr/>
            <p:nvPr/>
          </p:nvSpPr>
          <p:spPr>
            <a:xfrm>
              <a:off x="4826160" y="4532400"/>
              <a:ext cx="4033800" cy="180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 Fertigung:  ____ Ch. DRESS       ____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____ 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122880" y="5037120"/>
              <a:ext cx="2519640" cy="142560"/>
              <a:chOff x="6122880" y="5037120"/>
              <a:chExt cx="2519640" cy="142560"/>
            </a:xfrm>
          </p:grpSpPr>
          <p:sp>
            <p:nvSpPr>
              <p:cNvPr id="48" name=""/>
              <p:cNvSpPr/>
              <p:nvPr/>
            </p:nvSpPr>
            <p:spPr>
              <a:xfrm>
                <a:off x="6122880" y="510984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4520" y="51098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7274160" y="5037120"/>
                <a:ext cx="144360" cy="142560"/>
                <a:chOff x="7274160" y="5037120"/>
                <a:chExt cx="144360" cy="14256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7274160" y="510984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7346880" y="503712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" name=""/>
          <p:cNvGrpSpPr/>
          <p:nvPr/>
        </p:nvGrpSpPr>
        <p:grpSpPr>
          <a:xfrm>
            <a:off x="285840" y="3151080"/>
            <a:ext cx="2736720" cy="3095640"/>
            <a:chOff x="285840" y="3151080"/>
            <a:chExt cx="2736720" cy="3095640"/>
          </a:xfrm>
        </p:grpSpPr>
        <p:sp>
          <p:nvSpPr>
            <p:cNvPr id="54" name=""/>
            <p:cNvSpPr/>
            <p:nvPr/>
          </p:nvSpPr>
          <p:spPr>
            <a:xfrm>
              <a:off x="285840" y="315108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584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5840" y="35827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5420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54200" y="35827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5840" y="401436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54200" y="401436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5840" y="451944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54200" y="451944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584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5420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5840" y="502272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5840" y="315108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5840" y="523836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HOODY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5840" y="567180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5840" y="595908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893880" y="1461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mit Versandmarkt (P3 und P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56240" y="2868480"/>
            <a:ext cx="621000" cy="164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4760" y="762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39840" y="2887560"/>
            <a:ext cx="369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38320" y="28940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795840" y="539640"/>
            <a:ext cx="1657080" cy="1728720"/>
            <a:chOff x="3795840" y="539640"/>
            <a:chExt cx="1657080" cy="1728720"/>
          </a:xfrm>
        </p:grpSpPr>
        <p:grpSp>
          <p:nvGrpSpPr>
            <p:cNvPr id="76" name=""/>
            <p:cNvGrpSpPr/>
            <p:nvPr/>
          </p:nvGrpSpPr>
          <p:grpSpPr>
            <a:xfrm>
              <a:off x="3795840" y="539640"/>
              <a:ext cx="1657080" cy="1728720"/>
              <a:chOff x="3795840" y="539640"/>
              <a:chExt cx="1657080" cy="1728720"/>
            </a:xfrm>
          </p:grpSpPr>
          <p:sp>
            <p:nvSpPr>
              <p:cNvPr id="77" name=""/>
              <p:cNvSpPr/>
              <p:nvPr/>
            </p:nvSpPr>
            <p:spPr>
              <a:xfrm>
                <a:off x="3795840" y="539640"/>
                <a:ext cx="1655640" cy="43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r Absat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(Laden / Versand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95840" y="977760"/>
                <a:ext cx="1655640" cy="43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RESS (Chargen)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95840" y="1409400"/>
                <a:ext cx="1655640" cy="432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Großabnehmer (DRESS)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795840" y="539640"/>
                <a:ext cx="16570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3795840" y="1836360"/>
              <a:ext cx="1655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04920" y="552600"/>
            <a:ext cx="2746080" cy="2152440"/>
            <a:chOff x="304920" y="552600"/>
            <a:chExt cx="2746080" cy="2152440"/>
          </a:xfrm>
        </p:grpSpPr>
        <p:sp>
          <p:nvSpPr>
            <p:cNvPr id="83" name=""/>
            <p:cNvSpPr/>
            <p:nvPr/>
          </p:nvSpPr>
          <p:spPr>
            <a:xfrm>
              <a:off x="304920" y="55260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rketing-Mix (Laden / Versan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92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920" y="98388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Charg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328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3280" y="9838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920" y="18475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3280" y="18475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492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328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4280" y="2273040"/>
              <a:ext cx="2736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Verkau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552600"/>
              <a:ext cx="2736720" cy="2152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96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812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4000" y="1423800"/>
              <a:ext cx="266364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581360" y="228600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753160" y="1847880"/>
            <a:ext cx="47628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4880" y="2144880"/>
            <a:ext cx="5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402000" y="2651040"/>
            <a:ext cx="3061440" cy="1728720"/>
            <a:chOff x="3402000" y="2651040"/>
            <a:chExt cx="3061440" cy="1728720"/>
          </a:xfrm>
        </p:grpSpPr>
        <p:grpSp>
          <p:nvGrpSpPr>
            <p:cNvPr id="101" name=""/>
            <p:cNvGrpSpPr/>
            <p:nvPr/>
          </p:nvGrpSpPr>
          <p:grpSpPr>
            <a:xfrm>
              <a:off x="3402000" y="2651040"/>
              <a:ext cx="3061440" cy="1728720"/>
              <a:chOff x="3402000" y="2651040"/>
              <a:chExt cx="3061440" cy="1728720"/>
            </a:xfrm>
          </p:grpSpPr>
          <p:sp>
            <p:nvSpPr>
              <p:cNvPr id="102" name=""/>
              <p:cNvSpPr/>
              <p:nvPr/>
            </p:nvSpPr>
            <p:spPr>
              <a:xfrm>
                <a:off x="3416400" y="2651040"/>
                <a:ext cx="3039120" cy="352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 Produktionsmeng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416400" y="3003120"/>
                <a:ext cx="303912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DRESS (Chargen):    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416400" y="2651040"/>
                <a:ext cx="30412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402000" y="3348720"/>
                <a:ext cx="305136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DRESS (Chargen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4320" y="369576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22520" y="403740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705640" y="300024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TOPSIM Logo">
            <a:hlinkClick r:id="rId1"/>
          </p:cNvPr>
          <p:cNvPicPr/>
          <p:nvPr/>
        </p:nvPicPr>
        <p:blipFill>
          <a:blip r:embed="rId2"/>
          <a:srcRect l="0" t="16199" r="11879" b="0"/>
          <a:stretch/>
        </p:blipFill>
        <p:spPr>
          <a:xfrm>
            <a:off x="8556480" y="0"/>
            <a:ext cx="587520" cy="558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TOPSIM Logo">
            <a:hlinkClick r:id="rId3"/>
          </p:cNvPr>
          <p:cNvPicPr/>
          <p:nvPr/>
        </p:nvPicPr>
        <p:blipFill>
          <a:blip r:embed="rId4"/>
          <a:srcRect l="17279" t="16199" r="11879" b="16199"/>
          <a:stretch/>
        </p:blipFill>
        <p:spPr>
          <a:xfrm>
            <a:off x="0" y="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TOPSIM Logo">
            <a:hlinkClick r:id="rId5"/>
          </p:cNvPr>
          <p:cNvPicPr/>
          <p:nvPr/>
        </p:nvPicPr>
        <p:blipFill>
          <a:blip r:embed="rId6"/>
          <a:srcRect l="17279" t="16199" r="11879" b="16199"/>
          <a:stretch/>
        </p:blipFill>
        <p:spPr>
          <a:xfrm>
            <a:off x="0" y="640728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TOPSIM Logo">
            <a:hlinkClick r:id="rId7"/>
          </p:cNvPr>
          <p:cNvPicPr/>
          <p:nvPr/>
        </p:nvPicPr>
        <p:blipFill>
          <a:blip r:embed="rId8"/>
          <a:srcRect l="17279" t="16199" r="11879" b="16199"/>
          <a:stretch/>
        </p:blipFill>
        <p:spPr>
          <a:xfrm>
            <a:off x="8672400" y="6407280"/>
            <a:ext cx="47160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ws</cp:lastModifiedBy>
  <dcterms:modified xsi:type="dcterms:W3CDTF">2010-07-14T12:17:32Z</dcterms:modified>
  <cp:revision>27</cp:revision>
  <dc:subject/>
  <dc:title>Folie 1</dc:title>
</cp:coreProperties>
</file>